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5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66E6-0339-4636-9FF0-482616529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2E0A-71C9-4ECE-A20A-412B00C231E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6AD2D-1CAE-45D1-B627-554DB90AA5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4C036-174D-47F3-A71E-962BC1A63F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2A236-E78D-4C36-AD59-A8F363433D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048CE-ACEC-4902-955B-BC1FBCABF5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9F354-32D4-477F-9BDC-610B13638B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8BDE2-E538-49DB-9352-B1810FE4776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52791-6DEE-46F9-BCF7-E17129D1E2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603A9-199B-4FBB-8322-CF29641ADC8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DF5B3-36E8-4E2D-B161-35DFC555DA9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D30EB-B1E3-4DD5-B5E4-F50CF3BCDF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D6EB4-CF51-4A0C-B977-4D13BE65926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32092-A934-4BAE-AEFA-31A445C6DC6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45E77-9B20-423F-9628-165C36D58EB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2D156-E7FF-49E0-B0D9-ADAEC829F3F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F2268-21A7-4CBC-90EE-DF3FC9534E9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2B198-E314-4E52-98F3-C0386343434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56623-920B-42C6-810A-035573899D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A36CC-32DA-40D3-B2FA-6A571418DD2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BCC2A-8BB5-46F3-B08E-9699E6C3602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5EAC4-B7B3-4800-82D3-F12EE35A94C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8EA90-1A8B-47DF-BAA5-7045EF6F899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84AEA-CAB6-4DF6-A484-32F9AD4055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AF635-A4AF-46CE-88EE-176D3CF137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04E91-27DB-4A98-8BBA-811EDCC1CA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1F02-D557-4EDD-BA3F-8FC91F36E4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3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8706960" y="64213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650C-36DF-4BE3-B08F-D10741E2F0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21337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AR_WA_partners.jpg"/>
          <p:cNvPicPr/>
          <p:nvPr/>
        </p:nvPicPr>
        <p:blipFill>
          <a:blip r:embed="rId4"/>
          <a:stretch/>
        </p:blipFill>
        <p:spPr>
          <a:xfrm>
            <a:off x="1295280" y="3809880"/>
            <a:ext cx="6782040" cy="2471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4360" y="17521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87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ensifying Livestock Production (Theme 3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87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3. Milest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3" descr="IMG00556-20120925-1305"/>
          <p:cNvPicPr/>
          <p:nvPr/>
        </p:nvPicPr>
        <p:blipFill>
          <a:blip r:embed="rId1"/>
          <a:stretch/>
        </p:blipFill>
        <p:spPr>
          <a:xfrm>
            <a:off x="1258920" y="1770120"/>
            <a:ext cx="3090960" cy="1895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Figure 1"/>
          <p:cNvPicPr/>
          <p:nvPr/>
        </p:nvPicPr>
        <p:blipFill>
          <a:blip r:embed="rId2"/>
          <a:stretch/>
        </p:blipFill>
        <p:spPr>
          <a:xfrm>
            <a:off x="4349880" y="1790640"/>
            <a:ext cx="3024000" cy="1874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IMG00565-20120925-1354"/>
          <p:cNvPicPr/>
          <p:nvPr/>
        </p:nvPicPr>
        <p:blipFill>
          <a:blip r:embed="rId3"/>
          <a:stretch/>
        </p:blipFill>
        <p:spPr>
          <a:xfrm>
            <a:off x="1258920" y="3665520"/>
            <a:ext cx="3090960" cy="2067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wagashibrine"/>
          <p:cNvPicPr/>
          <p:nvPr/>
        </p:nvPicPr>
        <p:blipFill>
          <a:blip r:embed="rId4"/>
          <a:stretch/>
        </p:blipFill>
        <p:spPr>
          <a:xfrm>
            <a:off x="4335480" y="3675240"/>
            <a:ext cx="3024000" cy="20476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"/>
          <p:cNvSpPr/>
          <p:nvPr/>
        </p:nvSpPr>
        <p:spPr>
          <a:xfrm>
            <a:off x="1042920" y="587700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ining of milk processors in “Wagashi”  (soft cheese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3. Milest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684360" y="1601640"/>
            <a:ext cx="705636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hievements – Gh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 of existing and potential feed resources using FEAST in six intervention communities in the 3 regions of Northern Ghana. Surveys on feed market potential in 3 regions in Gha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ervation techniques for efficient use of crop residues as animal fe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promising livestock value chains in 3 regions  - Guinea fowl in Northern, small ruminants in Upper West and pig in Upper East reg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MSc students from University of Ghana, Legon completed their thesis; 1 PhD student (UDS Tamale) completed field work and preparing for his defen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3. Milest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2"/>
          <p:cNvSpPr/>
          <p:nvPr/>
        </p:nvSpPr>
        <p:spPr>
          <a:xfrm>
            <a:off x="684360" y="1601640"/>
            <a:ext cx="82087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hievements – M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agnosis of baseline situation with respect to biophysical, socio-economic and institutional profiles of the study sites, and the production systems (crop, livestock &amp; agroforestry) in Bougouni and Koutiala, Mal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nthesis report on review of existing land use plans and local conventions in Bougouni and Koutiala districts, Ma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feed resources and constraints to livestock production in six intervention communities in Bougouni and Koutiala districts using FEAST (Feed Assessment Tool) developed by IL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alysis of strength and weakness of local institutions governing natural resources, and strategies to strengthen th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ation of transhumance practices and the effects on natural resource management in the six intervention comm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icipatory analysis of the immediate and long-term causes of conflict over natural resource use and identification of  options to reduce conflicts and associated probl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3. Milest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2"/>
          <p:cNvSpPr/>
          <p:nvPr/>
        </p:nvSpPr>
        <p:spPr>
          <a:xfrm>
            <a:off x="684360" y="1601640"/>
            <a:ext cx="8208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hievements – M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onstration of chopping machine for conservation of crop residues and better util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977400" y="105228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4. Major Gaps in Phase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2"/>
          <p:cNvSpPr/>
          <p:nvPr/>
        </p:nvSpPr>
        <p:spPr>
          <a:xfrm>
            <a:off x="684360" y="1916280"/>
            <a:ext cx="82072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eed improvement, particularly community breeding sche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ing household nutrition through animal source f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ing nutrient flows in crop-livestock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vestock water productivity including rainwater harves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oving drudgery in production (small scale mechaniz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ing smallholder milk production, value addition and uti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977400" y="105228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5. Part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2"/>
          <p:cNvSpPr/>
          <p:nvPr/>
        </p:nvSpPr>
        <p:spPr>
          <a:xfrm>
            <a:off x="684360" y="1916280"/>
            <a:ext cx="82072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GIAR: ILRI, ICRIS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RS: CSIR-Animal Research Institute, Ghana; IER Mali; UDS Tamale; KNUST Kuma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GO: AMEDD M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79912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0000"/>
                </a:solidFill>
                <a:latin typeface="Calibri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1. Baseline (Project Starting point in 2012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2. Evolution of Livestock Research for Development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3. Key Milestones (Achievements &amp; Less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4. Major Gaps in Phas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5. Part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80880" y="1987200"/>
            <a:ext cx="77724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shop to review constraints and opportunities for intensification of ruminant and non-ruminant production systems in northern Ghana (27-28 Aug 20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ty analysi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constraints &amp; opportunities to livestock production) in Gh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seline survey in Mali in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ntory of technologies for Quick Wins in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haracterization of 3 key livestock value chains (guinea fowl in Northern region, pig in Upper East and small ruminants in Upper We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6560" y="105228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1. Baseline Info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042560" y="105228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1. Baseline Info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7" name="Objet 1"/>
          <p:cNvGraphicFramePr/>
          <p:nvPr/>
        </p:nvGraphicFramePr>
        <p:xfrm>
          <a:off x="2187720" y="2028960"/>
          <a:ext cx="4768560" cy="280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Obje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7720" y="2028960"/>
                    <a:ext cx="4768560" cy="28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Rectangle 2"/>
          <p:cNvSpPr/>
          <p:nvPr/>
        </p:nvSpPr>
        <p:spPr>
          <a:xfrm>
            <a:off x="684360" y="494172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pulation pyramid of Fonfana Village in Koutiala in 2009/2010 (Source: Travail des enfants dans l’agriculture; total population 63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684360" y="5672160"/>
            <a:ext cx="739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dominance of youthful population in both study sites, household labour for farming is a critical issu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ild nutrition is important in both Bougouni &amp; Koutiala in view of the significant proportion of the population that is childr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5680" y="1267920"/>
            <a:ext cx="88790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2. Evolution of Livestock Research for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5280" y="1961640"/>
            <a:ext cx="77724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2: Testing of Quick Wins technologies – No coordinated research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2: On-station evaluation of some technologies e.g. non-conventional feeds for pigs and guinea fowl (replacing maize with false yam tuber meals for local pig Ashanti Black; replacing maize with false yam seed or sorghum spent grain (pito mash) for local guinea fowl; to replace maize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2: Baseline studies in Ghana and M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2: Capacity building – non-degree short term training for farmers and researc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0" y="1287000"/>
            <a:ext cx="88200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2. Evolution of Livestock Research for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2090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3: Training in FEAST and evaluation of feed re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3 -2016: On-farm testing and evaluation of technologies e.g. feed-health interventions in Gh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013 – 2016: PhD Research (1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Nutrient use in smallholder livestock production systems in Northern Ghana;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2. Loc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stitutions governing NRM in Mal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013-2014: Testing feed and housing options to improve productivity of rural poultry and pig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014: Characterization of 3 key livestock value chains (guinea fowl in Northern region, pig in Upper East and small ruminants in Upper We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0" y="1287000"/>
            <a:ext cx="88200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2. Evolution of Livestock Research for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2090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015-2016: Ensiling techniques for conservation of crop residues in Ghana – On=farm demonstration and training of far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016 – 2017: Piloting feed-health interventions in M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015-2016: Development oriented activities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aboration and formalization of local conventions in 3 communities in Bougouni and Koutiala, and demarcation of livestock routes; training in conflict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3. Milest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2"/>
          <p:cNvSpPr/>
          <p:nvPr/>
        </p:nvSpPr>
        <p:spPr>
          <a:xfrm>
            <a:off x="179280" y="1601640"/>
            <a:ext cx="864072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hievements – Gh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ynthesis on sustainable intensification of cereal-based farming systems in the Sudano-Sahelian zone of Ghana: Analysis of constraints and opportunities for the sustainable intensification of mixed crop-livestock farming systems in northern Gha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agnostic workshop to analyze constraints and opportunities of sustainable intensification of crop-livestock systems in Northern Ghana held in August 2012. The proceedings from the workshop is avail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four day training course was organized on crop-livestock farming systems in Tamale, Ghana from 19 to 22 September, 2012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73 herdsmen, women and cattle owners were trained in milk hygiene practices in 3 districts of northern Ghana in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3. Milest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2"/>
          <p:cNvSpPr/>
          <p:nvPr/>
        </p:nvSpPr>
        <p:spPr>
          <a:xfrm>
            <a:off x="684360" y="1601640"/>
            <a:ext cx="820872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hievements – Gh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25 processors were trained in ‘wagashi’ (soft cheese) processing in the 3 districts in Northern Ghana and 40 milk processors were introduced to rudiments of yoghurt processing in one district in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ed-health interventions for improved small ruminant production in 9 communities in 3 regions - increased weight gain, significant decline in mortality and increase in manure output from the treatment animals. More than 5,000 sheep and goats were vaccinated against PP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truction of 12 model houses for sheep and goat in 6 intervention communities in Northern Gha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eline studies on options to increase productivity of rural poultry and pig production systems, and feeding trials on use of non-conventional feed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ining on Feed Assessment Tool (FEAST) in Tamale in August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10:36:32Z</dcterms:created>
  <dc:creator>IZeledon</dc:creator>
  <dc:description/>
  <dc:language>en-US</dc:language>
  <cp:lastModifiedBy>Odhong, Jonathan (IITA)</cp:lastModifiedBy>
  <cp:lastPrinted>2011-10-06T11:45:23Z</cp:lastPrinted>
  <dcterms:modified xsi:type="dcterms:W3CDTF">2016-12-14T07:51:04Z</dcterms:modified>
  <cp:revision>80</cp:revision>
  <dc:subject/>
  <dc:title>Slide 1</dc:title>
</cp:coreProperties>
</file>